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32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29.png" ContentType="image/png"/>
  <Override PartName="/ppt/media/image2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dt" idx="2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ftr" idx="2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29C1353-3EC7-4C32-A1C6-0E336592DD7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0290F70-4B47-4018-A259-A11C4DDA303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6F73533-96B6-4BCA-9EF7-63CE357847C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09B1-DEB4-4819-8CCF-548BED79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4EC3-0EAA-42D2-9E20-03AD2424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AAB75F-A430-497F-BB3F-4F82CB4E4A5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A93BC8-1377-4789-93B2-B03807CF3B8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1D269E-53E8-4A45-B49F-858451D26C2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74A1AF-6AC4-454D-8829-7E7D7AF4D36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3395AF-2E63-4FD3-ACDB-DDC68A125B9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956A6B-9C90-4583-8DB4-080B672A6C0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0D229F-61E9-410D-9B69-D6F02F38DA8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0BA796-0A3E-4F48-94A4-1F6A70379A0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E3D2E2-F419-4B84-A8D8-0AC3A9630C1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933D4C-E57D-42A6-BC34-0550CA5CB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730-AA93-4663-B09F-3A8D8E58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EC2AEB-DD93-432F-8649-08A862FD750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21FF12-C5CC-496E-9BDE-F9EDD50FE06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30491C-D12E-48B6-BF26-F12B443D505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96D575-7535-4564-A41E-D65D23C81E2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E1EB98-30EF-4341-B1EF-6F333A54E11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8B14D5-9A34-4806-9BDB-D6E92A9F3D8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1C6C0F-5844-406E-98AC-2E7FAFEEFE2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0425C0-A938-44B8-A777-EFFAA4363FA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970B39-3CC1-4BC5-A2A0-3A883AE61D9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ADD047-843E-45F5-91C7-03049DC12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D9D-E84D-472A-AEE9-23F41731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CB8113-7C74-4E7A-95DD-7FD8D9E31C2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75E1A-8A0F-4844-8D4F-FED3549E717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E2394-2CAE-4EA2-A8DF-70C6EED99E4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1F78C-E857-4490-8EA5-E15E540DE6D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EC08D-BB28-4F8A-860B-A12C8F09BB7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AEAAE-CECD-4434-A464-9ED8F0CA81C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C0967-19C7-48D9-B935-EEBB3FB623F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45EB9-EC37-4E4E-A426-39CFCAC6E19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C98B3-8A21-4247-A522-D71CEFAF12D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9C6C3-9E11-4DD4-B646-C7E62723E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AA833-1849-4DA0-9D51-CE407F4F9BC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DCC52-3726-4E0C-BBC6-F3B6C0D26A5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C3D25-6EAD-4A03-A1F1-BD5902892E3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C4C91E-52A7-4E27-A5D6-096A357B5B2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9B05E9-E671-48A2-8EF6-C189F38FCAD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D4C5F9-B1B3-4176-AF4B-A04E779F92E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1925C7-A49E-46B0-9F06-D66180D7369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B5F31E-2E00-4EE7-86C2-119C6E55FE1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BF9285-9B23-4365-8961-2DBFECB6311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57D284-DE5C-4E36-B688-1D212DD5A3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458C27-9254-44C3-B9E4-564C13BD59F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9A2674-6D19-4A2F-9175-623645AC9A5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DE0C57-125A-4DE3-918E-F191B07632D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0B59EB-4B79-4BFA-A8B6-F0FC1EEA29F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B53920-A0DA-4386-9574-17E75AF4ADD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1FBE55-9820-43AF-B683-4AC4502E619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82DFA7-2C30-456E-B548-8DB4FE30F16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4F5D4-8728-417A-A147-87C35D4511C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2144D2-0E7B-4CBA-9E9B-468159FDC3F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0637C-6AB7-4CEC-935C-B82F109D90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9AB2A0-2D42-4D02-AF68-5EC7EE1E24A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012914-B3BF-4939-B4D1-2FEB44EAF43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E35AD-B9E2-4B84-97ED-D4966F2F9F9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6091FC-A132-4490-ADEE-851F6D9E70D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5D1330-BDA0-4FD5-8B68-0E2A398C7E2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025C6B-41B9-4CAC-A755-1DCAA660712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66D2DC-93EA-4555-BBF0-D1E987AC147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6D4CD-8A3D-466F-A473-F908AC0833C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A7642-531D-4759-B458-997F93C9C3F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217A5-CB5C-4A54-AB5F-CDEE5B4D57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36CD1-D44E-4BEA-9AA4-1E01C19863A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AC5D9-C1E4-4EEE-918C-EECF96E817B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C3A9E-C906-4C4A-BB0E-5080F35C66C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180C5-81C1-4F70-B533-7544365D36B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73CC5-CA0D-4B48-8498-F657532A9D2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8ECBE-16E8-4EA0-9B2D-89135D6B6C5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33D63-97C1-44F4-A279-B0946C6B6D0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FE44C-B5B5-400F-A4AC-0903C2CE5BA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E67B7-0584-4739-81C6-A1B97A7CD64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0FC755-7270-4C5E-B317-16424E4B3D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88CFA4-D3BA-48FF-AA08-3C32E761B90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824698-9927-4BF6-B9D0-3E80AD01FAF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496C82-DE78-41BA-8249-9EC4E9014EC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274AF5-777E-4262-BC35-7112BB2B835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EDAB36-83DF-45BF-9C28-E6EC5D86583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CA5F61-4B15-459B-B045-F8B4324278E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F1725D-AC2F-421B-ABC6-DA12024E03F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5998D9-5B2D-4E82-AAA3-A3B39280B10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149307-B879-499D-B355-CCA859F5C67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0E9DAC-D037-4386-9302-17C0252CF9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C2AF00-F992-4EB0-B45D-D70AD99A3D2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7B6ACC-5736-481B-8476-9FFEA2D1E1D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09A1D7-7C54-4B8B-AFE0-B7081767B99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585F7D-7DEC-484A-BEA8-CFB4086559A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E6E866-7534-4A00-A227-B5D3D55DEB2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86B077-982C-47A1-84FC-F42C8D710C8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AED975-FFF8-457F-8D4C-1B5E0D244A0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96540C-C190-4D63-BE95-879FDE31981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281874-3213-4464-827C-74FB6AFECAE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5FB570-EADE-4EEE-AA2C-BFE56F1DF3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345A41-7DCF-4E7B-B05B-29C3A19680D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12E4D8-B13F-4E8B-B6A6-2E99CD9116C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71F428-AB01-451B-BEE8-49853F55E81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844-4703-4289-9F65-777E0273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938279-5AB3-4B70-8F49-5E05018B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EE12A2-F589-4DA7-8DC4-97A64FBA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9DA7C7-E47C-4793-A430-5595D73F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414527-DD8A-4D4B-B517-F88BCF98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9446B3-B5AB-4F2A-9CF9-FCC10054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8483B6-1F8F-4B31-85CB-D44E736B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ED1649-2E22-4050-93E4-54E6CDBB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68446C-15D9-4C74-94AA-584ED2D3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D4C2C6-11DB-44C0-9F01-AF5F178F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EC9689-DCF1-48D4-9F0E-A84EC03B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AC3ED5-45EF-4654-83EA-92127752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63402E-3082-45E8-A517-BC809FE0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9E4CD-23F1-4FA3-BFE7-1C6C21EA72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CCEB7-4F1D-4ECA-8318-F60F3725AE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C1963-4F17-4672-8770-976F114B11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943CA-4739-4103-B458-F782913471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A8847-7DC8-47CE-B7F1-1D9B231E6E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16DE-C92C-4ED4-A1CF-E1A8BD8B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98CD2-3781-4C01-944D-D0F9FE083A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422AF-452F-4832-A221-A8BF1EA998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8CC41-9802-439D-B264-4611F80067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2621B-9801-4E79-84FC-E4A645E454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C3997-EEAF-46E8-89CA-D772FD399A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30911-5BE4-4973-8A14-6B6D60E5C2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FAF87-015E-4BEA-82CB-60BB69071C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90204-03F6-4982-ACC8-7717FC1911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1A94B-AE66-437E-A595-FD73C56184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118E9-48BC-4AD9-BAA7-894A626B3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04D-51E6-47BF-ABE1-0E56CA56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383B7-3314-43F2-943F-259C42325E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3D348-35DA-4EB1-B27B-2A0D3D24A2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7A5AA-30A2-4E0C-BC7A-DA038AF589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5BF91-A49C-4BCD-A6D8-4CFE32CF80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6E4D0-5E17-4B3E-A5D0-8B700585A3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012F3-3989-406F-9045-C587E95786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6D4FF-618C-4633-9A89-B0F56409A3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A6515-7482-4543-8EA8-B6CFD267D2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7C43A-A889-46F2-A364-7A0C23AA6BF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4FE9-D10F-4E92-9FDD-C5D880183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904-2D50-4003-8409-B96D8483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12CA-64A7-4B4D-99D6-E0E6F876174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AE49-88A9-414C-929A-1EE813BD0FD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C15D-C8BF-4958-9177-7738F518BD3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B4F2-0537-48E1-AD6F-153D9E68E8B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6C45-5DE9-4EDC-8AF0-94769735A1D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F4D1-3625-4330-92A9-D6067BC86C3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FE2C-7206-4D31-B014-D4D0AD20A64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8930-A9F8-4180-AB07-2619A4CD9D7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3A74-0B49-4831-A9B1-47A7C7C80B7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8509-C0E4-4A52-A290-FDFE75633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9E91-65BF-4756-83EB-48820CA9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DD44-A249-4F11-9B0D-F34BCBF2A17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6B20AD-AED8-478F-A33C-06987C478FE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5BAAE0-7811-4A03-9326-55E1950E085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F18A22-B358-42E8-8139-935E308359F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C1D9BA-A62E-484C-980A-657745C932F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2E0950-60B7-45B1-9BBC-41CE9ADCD83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799726-8E5C-479F-9D9F-22261419310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DAA129-2189-4F5C-B2E5-71082F18531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87F06E-93F3-48C5-9EFF-AD996DE759C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47166A-0C85-4958-8C80-895D5D674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513-4B7F-4D13-9DAD-E4303A38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4A3BD0-EF93-40F1-A773-479035AD41D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C3EE5F-FB07-49E1-A17E-13774C79A3B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B04621-277F-410C-8BC1-129FC651D0A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0E7CC-AE61-4A80-A596-66F1F203FD5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444EE-6F04-46B6-BD83-42C5B545601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D861A-54CC-4D27-A0BF-86256A43C82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05116-2B7A-4850-A049-7160DBB44E7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D34F8-3921-4D2D-AF4C-F75013AA260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EDB69-C717-48DF-A1A2-1BA063B25BC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9C681A-DB25-4F54-8E2F-A21868099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986E-D07C-4E44-B362-F03BACF4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41E27-A738-46C7-A042-79ACCA32DEF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515DE7-694D-4CC7-BC6C-011B20DCCA1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5DFE38-6D5D-47B9-8052-01479869A08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207415-4184-4A66-AD0B-9EBDBDE5AFE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4898A-8AE7-4CCC-B99C-718A2F50190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FA17C-DFBD-4D28-A8B6-FEE3F75A6B2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706D5-F471-49F8-BB3C-2AB4BD4B8B4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3CAA8-CC21-4CDE-9AA7-88ABE107E3C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E0789-9CCB-4859-80CB-8FD87C69386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444EF-4D4C-403C-87AF-9E2B563A3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5EF8-498F-49EC-8B4B-D56916AE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1C341-06B7-4E62-B84A-B1973F61F86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B1C8D-1CFD-489A-B660-F62BD54A351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FC456-87A7-4D76-BBC6-61038E0A24A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A9A21-F867-4252-8AC9-07EC48AE4F9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95D3D-8D22-4BA9-BADE-922C20D0211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4388C-604F-4853-9813-C7B152A9A70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FB96F-30D9-4CD4-A482-87BDCAF14EE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CFBB09-6716-467D-A88E-1A7FB586C7D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6D4100-9A0C-4D67-911B-D2CF8A4F090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7BC733-D76F-4CA2-884A-07CBF1140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8213116-C1FD-4CE6-A25B-A7F73E65332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7ACE32C-7595-4356-8AC3-5AE96B0E48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A85E1AF-C209-4AB1-BED7-39AF53378F6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04E41BD-DECD-4CF1-9966-6285700DCE5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4D33F4E-C570-49FF-83FA-20CB1BF21E7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BE10915-61A8-4958-9D44-4767483FDA8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33E5E4F-60AE-4E22-93BE-06374C5FE2A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D727250-3ED4-4C5A-8914-F3060815FCF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92FF110-6EB8-43FD-9509-F62743F6069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5749670-9D84-49AD-A251-FAFED71A1EE8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BE6ACBD-E6F1-4FA1-B2A0-3A328F9E933F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08A2A68-2DBC-420D-91AD-046B32D2634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64ECC6D-CF79-4822-9076-C5C40340B21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7261D0F-AD84-458C-B768-401FD2F1C99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7889038-45C7-4466-B811-1911194B102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73AF1CF-9672-43FA-A004-3DF3211A53F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BDEBB3E-5E1D-4AD4-B8A3-8A402295568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13AFDD1-5C2E-4D6B-98FA-9E2CFB6C5C5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141640" y="612360"/>
            <a:ext cx="6316560" cy="163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Verdana"/>
                <a:ea typeface="Verdana"/>
              </a:rPr>
              <a:t>Projektu pieteikumu aizpildīšanas seminārs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Verdana"/>
                <a:ea typeface="Verdana"/>
              </a:rPr>
              <a:t>Nordplus  Pieaugušo izglītības projektu iesniedzējiem</a:t>
            </a:r>
            <a:br>
              <a:rPr sz="23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29960" y="2887560"/>
            <a:ext cx="765324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2060"/>
                </a:solidFill>
                <a:latin typeface="Verdana"/>
                <a:ea typeface="Verdana"/>
              </a:rPr>
              <a:t>Projekt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15.janvār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83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  <p:sp>
        <p:nvSpPr>
          <p:cNvPr id="816" name="Title 1"/>
          <p:cNvSpPr/>
          <p:nvPr/>
        </p:nvSpPr>
        <p:spPr>
          <a:xfrm>
            <a:off x="0" y="2984400"/>
            <a:ext cx="25909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varīgi! Pārdomājam, ar kādu e-pasta adresi reģistrēsimies!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820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6" descr=""/>
          <p:cNvPicPr/>
          <p:nvPr/>
        </p:nvPicPr>
        <p:blipFill>
          <a:blip r:embed="rId2"/>
          <a:srcRect l="0" t="0" r="0" b="4418"/>
          <a:stretch/>
        </p:blipFill>
        <p:spPr>
          <a:xfrm>
            <a:off x="2741760" y="1457280"/>
            <a:ext cx="5719680" cy="4746600"/>
          </a:xfrm>
          <a:prstGeom prst="rect">
            <a:avLst/>
          </a:prstGeom>
          <a:ln w="0">
            <a:noFill/>
          </a:ln>
        </p:spPr>
      </p:pic>
      <p:sp>
        <p:nvSpPr>
          <p:cNvPr id="824" name="Title 1"/>
          <p:cNvSpPr/>
          <p:nvPr/>
        </p:nvSpPr>
        <p:spPr>
          <a:xfrm>
            <a:off x="0" y="2851200"/>
            <a:ext cx="2590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5" name="Straight Arrow Connector 9"/>
          <p:cNvCxnSpPr/>
          <p:nvPr/>
        </p:nvCxnSpPr>
        <p:spPr>
          <a:xfrm>
            <a:off x="2141280" y="3171600"/>
            <a:ext cx="6008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2479680" y="1504800"/>
            <a:ext cx="6458040" cy="5007240"/>
          </a:xfrm>
          <a:prstGeom prst="rect">
            <a:avLst/>
          </a:prstGeom>
          <a:ln w="0">
            <a:noFill/>
          </a:ln>
        </p:spPr>
      </p:pic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1942920"/>
            <a:ext cx="2209680" cy="23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Varam dot iespēju kolēģiem no mūsu un partneru  organizācijām lasīt, vai papildināt un rediģēt teks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Straight Arrow Connector 8"/>
          <p:cNvCxnSpPr/>
          <p:nvPr/>
        </p:nvCxnSpPr>
        <p:spPr>
          <a:xfrm>
            <a:off x="1569600" y="4199040"/>
            <a:ext cx="3002760" cy="80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29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3" descr=""/>
          <p:cNvPicPr/>
          <p:nvPr/>
        </p:nvPicPr>
        <p:blipFill>
          <a:blip r:embed="rId1"/>
          <a:stretch/>
        </p:blipFill>
        <p:spPr>
          <a:xfrm>
            <a:off x="5148360" y="3705120"/>
            <a:ext cx="3848040" cy="20480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2" descr=""/>
          <p:cNvPicPr/>
          <p:nvPr/>
        </p:nvPicPr>
        <p:blipFill>
          <a:blip r:embed="rId2"/>
          <a:srcRect l="2692" t="0" r="3629" b="0"/>
          <a:stretch/>
        </p:blipFill>
        <p:spPr>
          <a:xfrm>
            <a:off x="77760" y="2251080"/>
            <a:ext cx="9163080" cy="119700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Ievadītā teksta saglabā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34" name="Title 1"/>
          <p:cNvSpPr/>
          <p:nvPr/>
        </p:nvSpPr>
        <p:spPr>
          <a:xfrm>
            <a:off x="463680" y="4189320"/>
            <a:ext cx="25905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Vienmēr nospiežam pēc informācijas ievadīša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5" name="Straight Arrow Connector 9"/>
          <p:cNvCxnSpPr/>
          <p:nvPr/>
        </p:nvCxnSpPr>
        <p:spPr>
          <a:xfrm flipV="1">
            <a:off x="3446280" y="3958920"/>
            <a:ext cx="1867320" cy="1348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6" name="Title 1"/>
          <p:cNvSpPr/>
          <p:nvPr/>
        </p:nvSpPr>
        <p:spPr>
          <a:xfrm>
            <a:off x="2165400" y="5307120"/>
            <a:ext cx="2590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  <a:ea typeface="Verdana"/>
              </a:rPr>
              <a:t>Nekad nespiežam “Back” veidlapas aizpildīšanas gaitā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Straight Arrow Connector 12"/>
          <p:cNvCxnSpPr/>
          <p:nvPr/>
        </p:nvCxnSpPr>
        <p:spPr>
          <a:xfrm flipV="1">
            <a:off x="1874880" y="2763360"/>
            <a:ext cx="1650240" cy="1426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7" descr=""/>
          <p:cNvPicPr/>
          <p:nvPr/>
        </p:nvPicPr>
        <p:blipFill>
          <a:blip r:embed="rId1"/>
          <a:stretch/>
        </p:blipFill>
        <p:spPr>
          <a:xfrm>
            <a:off x="3533760" y="1017720"/>
            <a:ext cx="5610240" cy="5840280"/>
          </a:xfrm>
          <a:prstGeom prst="rect">
            <a:avLst/>
          </a:prstGeom>
          <a:ln w="0">
            <a:noFill/>
          </a:ln>
        </p:spPr>
      </p:pic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 partneru organizācijām Nordplus datubāzē (ja tās vēl nav reģistrētas datu bāzē!)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Visām iesistītajām organizācijām sistēma ģenerē apliecinājuma vēstules, </a:t>
            </a:r>
            <a:r>
              <a:rPr b="1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1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0" name="Straight Arrow Connector 10"/>
          <p:cNvCxnSpPr/>
          <p:nvPr/>
        </p:nvCxnSpPr>
        <p:spPr>
          <a:xfrm flipV="1">
            <a:off x="3098520" y="2094840"/>
            <a:ext cx="3005640" cy="9975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41" name="Straight Arrow Connector 12"/>
          <p:cNvCxnSpPr/>
          <p:nvPr/>
        </p:nvCxnSpPr>
        <p:spPr>
          <a:xfrm flipV="1">
            <a:off x="2819160" y="2095200"/>
            <a:ext cx="5329800" cy="1591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7" descr=""/>
          <p:cNvPicPr/>
          <p:nvPr/>
        </p:nvPicPr>
        <p:blipFill>
          <a:blip r:embed="rId2"/>
          <a:stretch/>
        </p:blipFill>
        <p:spPr>
          <a:xfrm>
            <a:off x="3510000" y="315756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-151200" y="1666440"/>
            <a:ext cx="3660840" cy="2675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pati lieto.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 Pēc partneru datu ievadīšanas sistēma ģenerē </a:t>
            </a:r>
            <a:r>
              <a:rPr b="1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partneru apliecinājuma vēstules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, kuras jāizdrukā, jāparaksta, jāieskanē un jāpievieno projekta pieteikumem (skat. 6. sadaļu)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46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847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7" descr=""/>
          <p:cNvPicPr/>
          <p:nvPr/>
        </p:nvPicPr>
        <p:blipFill>
          <a:blip r:embed="rId1"/>
          <a:stretch/>
        </p:blipFill>
        <p:spPr>
          <a:xfrm>
            <a:off x="2359080" y="1227240"/>
            <a:ext cx="6784920" cy="5186160"/>
          </a:xfrm>
          <a:prstGeom prst="rect">
            <a:avLst/>
          </a:prstGeom>
          <a:ln w="0">
            <a:noFill/>
          </a:ln>
        </p:spPr>
      </p:pic>
      <p:cxnSp>
        <p:nvCxnSpPr>
          <p:cNvPr id="849" name="Straight Arrow Connector 9"/>
          <p:cNvCxnSpPr/>
          <p:nvPr/>
        </p:nvCxnSpPr>
        <p:spPr>
          <a:xfrm>
            <a:off x="1600200" y="3633840"/>
            <a:ext cx="953280" cy="11926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850" name="Title 1"/>
          <p:cNvSpPr/>
          <p:nvPr/>
        </p:nvSpPr>
        <p:spPr>
          <a:xfrm>
            <a:off x="-9360" y="2770200"/>
            <a:ext cx="2562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Varam izvēlēties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tikai vie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rojekta veid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Attiecīgi – ja vēlamies gan mobilitātes, gan sadarbības projektu, jāiesniedz vairāki projekta pieteiku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657760" y="4826160"/>
            <a:ext cx="3268800" cy="637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Šai sadaļai jārada skaidrs priekšstats par projekta ieceri un nepieciešamī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Straight Arrow Connector 11"/>
          <p:cNvCxnSpPr/>
          <p:nvPr/>
        </p:nvCxnSpPr>
        <p:spPr>
          <a:xfrm flipH="1">
            <a:off x="3180600" y="5092200"/>
            <a:ext cx="2826360" cy="483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853" name="Straight Arrow Connector 6"/>
          <p:cNvCxnSpPr/>
          <p:nvPr/>
        </p:nvCxnSpPr>
        <p:spPr>
          <a:xfrm flipH="1">
            <a:off x="2831760" y="786960"/>
            <a:ext cx="2248560" cy="40395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854" name="Title 1"/>
          <p:cNvSpPr/>
          <p:nvPr/>
        </p:nvSpPr>
        <p:spPr>
          <a:xfrm>
            <a:off x="5079960" y="0"/>
            <a:ext cx="3589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Varam iesniegt arī pieteikumu sagatavošanas vizītei, lai sagatavotu projektu 2022. gada projektu konkurs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9" descr=""/>
          <p:cNvPicPr/>
          <p:nvPr/>
        </p:nvPicPr>
        <p:blipFill>
          <a:blip r:embed="rId1"/>
          <a:stretch/>
        </p:blipFill>
        <p:spPr>
          <a:xfrm>
            <a:off x="2928960" y="636480"/>
            <a:ext cx="5967360" cy="6221520"/>
          </a:xfrm>
          <a:prstGeom prst="rect">
            <a:avLst/>
          </a:prstGeom>
          <a:ln w="0">
            <a:noFill/>
          </a:ln>
        </p:spPr>
      </p:pic>
      <p:sp>
        <p:nvSpPr>
          <p:cNvPr id="856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mobilitāte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itle 1"/>
          <p:cNvSpPr/>
          <p:nvPr/>
        </p:nvSpPr>
        <p:spPr>
          <a:xfrm>
            <a:off x="-42840" y="2500200"/>
            <a:ext cx="2108160" cy="23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  <a:ea typeface="Verdana"/>
              </a:rPr>
              <a:t>Visiem aprakstiem jābūt izsmeļošiem, taču iespējami koncentrēti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3030480" y="690480"/>
            <a:ext cx="5689800" cy="5897520"/>
          </a:xfrm>
          <a:prstGeom prst="rect">
            <a:avLst/>
          </a:prstGeom>
          <a:ln w="0">
            <a:noFill/>
          </a:ln>
        </p:spPr>
      </p:pic>
      <p:sp>
        <p:nvSpPr>
          <p:cNvPr id="859" name="Title 1"/>
          <p:cNvSpPr/>
          <p:nvPr/>
        </p:nvSpPr>
        <p:spPr>
          <a:xfrm>
            <a:off x="0" y="3854520"/>
            <a:ext cx="258588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Jānorāda iepriekšējie Nordplus projekti, kā arī citi Nordplus projektu iesniegumi šim konkursam (ja tādi ir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Straight Arrow Connector 8"/>
          <p:cNvCxnSpPr/>
          <p:nvPr/>
        </p:nvCxnSpPr>
        <p:spPr>
          <a:xfrm>
            <a:off x="2585520" y="4830480"/>
            <a:ext cx="6217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072880" y="374760"/>
            <a:ext cx="6442200" cy="76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Verdana"/>
                <a:ea typeface="Verdana"/>
              </a:rPr>
              <a:t>  </a:t>
            </a:r>
            <a:r>
              <a:rPr b="1" lang="nb-NO" sz="32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3200" spc="-1" strike="noStrike">
                <a:solidFill>
                  <a:srgbClr val="0b7d91"/>
                </a:solidFill>
                <a:latin typeface="Verdana"/>
                <a:ea typeface="Verdana"/>
              </a:rPr>
              <a:t> 2021. gada projektu konkurs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692440" y="1141560"/>
            <a:ext cx="6184800" cy="5233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1859c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31859c"/>
                </a:solidFill>
                <a:latin typeface="Calibri"/>
              </a:rPr>
              <a:t>2020.gada 1. novembrī</a:t>
            </a:r>
            <a:r>
              <a:rPr b="1" lang="lv-LV" sz="2600" spc="-1" strike="noStrike">
                <a:solidFill>
                  <a:srgbClr val="002060"/>
                </a:solidFill>
                <a:latin typeface="Calibri"/>
              </a:rPr>
              <a:t> izsludināts ikgadējais Nordplus projektu konkurss </a:t>
            </a:r>
            <a:r>
              <a:rPr b="0" lang="lv-LV" sz="2600" spc="-1" strike="noStrike">
                <a:solidFill>
                  <a:srgbClr val="002060"/>
                </a:solidFill>
                <a:latin typeface="Calibri"/>
              </a:rPr>
              <a:t>https://www.nordplusonline.org/calls/call-for-applications-round-1-february-2021/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ff0000"/>
                </a:solidFill>
                <a:latin typeface="Calibri"/>
              </a:rPr>
              <a:t>Projektu pieteikumu iesniegšanas termiņš</a:t>
            </a:r>
            <a:r>
              <a:rPr b="1" lang="lv-LV" sz="2600" spc="-1" strike="noStrike">
                <a:solidFill>
                  <a:srgbClr val="ff0000"/>
                </a:solidFill>
                <a:latin typeface="Calibri"/>
              </a:rPr>
              <a:t> - 2021. gada  1. februāris </a:t>
            </a:r>
            <a:r>
              <a:rPr b="0" lang="lv-LV" sz="2600" spc="-1" strike="noStrike">
                <a:solidFill>
                  <a:srgbClr val="ff0000"/>
                </a:solidFill>
                <a:latin typeface="Calibri"/>
              </a:rPr>
              <a:t>(plkst. 23:59 pēc Norvēģijas laik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146160" y="2209680"/>
            <a:ext cx="2628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2" descr=""/>
          <p:cNvPicPr/>
          <p:nvPr/>
        </p:nvPicPr>
        <p:blipFill>
          <a:blip r:embed="rId1"/>
          <a:stretch/>
        </p:blipFill>
        <p:spPr>
          <a:xfrm>
            <a:off x="3294000" y="0"/>
            <a:ext cx="5667480" cy="5745240"/>
          </a:xfrm>
          <a:prstGeom prst="rect">
            <a:avLst/>
          </a:prstGeom>
          <a:ln w="0">
            <a:noFill/>
          </a:ln>
        </p:spPr>
      </p:pic>
      <p:sp>
        <p:nvSpPr>
          <p:cNvPr id="862" name="Title 1"/>
          <p:cNvSpPr/>
          <p:nvPr/>
        </p:nvSpPr>
        <p:spPr>
          <a:xfrm>
            <a:off x="250920" y="1866960"/>
            <a:ext cx="25858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tvert to, kas attiecas uz pieaugušo izglītī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Straight Arrow Connector 8"/>
          <p:cNvCxnSpPr/>
          <p:nvPr/>
        </p:nvCxnSpPr>
        <p:spPr>
          <a:xfrm>
            <a:off x="2982960" y="3733560"/>
            <a:ext cx="62100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64" name="TextBox 7"/>
          <p:cNvSpPr/>
          <p:nvPr/>
        </p:nvSpPr>
        <p:spPr>
          <a:xfrm>
            <a:off x="0" y="3071880"/>
            <a:ext cx="3147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Iespējami konkrēti jānorāda partnera uzdevumi, komunikāciju kanāli (Skype, ZOOM...) un regularitā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Box 8"/>
          <p:cNvSpPr/>
          <p:nvPr/>
        </p:nvSpPr>
        <p:spPr>
          <a:xfrm>
            <a:off x="55440" y="4307040"/>
            <a:ext cx="2781360" cy="23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Šī ir ļoti būtiska sadaļa – jāparāda paredzamā projekta ietekme uz partneru organizācijām. Kā projekta aktivitātes ir saistītas ar pieaugušo izglītotājaikdien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darbu? Jāapraksta rezultātu ilgtspēj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Straight Arrow Connector 11"/>
          <p:cNvCxnSpPr/>
          <p:nvPr/>
        </p:nvCxnSpPr>
        <p:spPr>
          <a:xfrm>
            <a:off x="2673360" y="2552400"/>
            <a:ext cx="93096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67" name="Straight Arrow Connector 13"/>
          <p:cNvCxnSpPr/>
          <p:nvPr/>
        </p:nvCxnSpPr>
        <p:spPr>
          <a:xfrm>
            <a:off x="2825280" y="5273280"/>
            <a:ext cx="6217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2" descr=""/>
          <p:cNvPicPr/>
          <p:nvPr/>
        </p:nvPicPr>
        <p:blipFill>
          <a:blip r:embed="rId1"/>
          <a:stretch/>
        </p:blipFill>
        <p:spPr>
          <a:xfrm>
            <a:off x="2903400" y="0"/>
            <a:ext cx="5639040" cy="5992920"/>
          </a:xfrm>
          <a:prstGeom prst="rect">
            <a:avLst/>
          </a:prstGeom>
          <a:ln w="0">
            <a:noFill/>
          </a:ln>
        </p:spPr>
      </p:pic>
      <p:sp>
        <p:nvSpPr>
          <p:cNvPr id="869" name="TextBox 7"/>
          <p:cNvSpPr/>
          <p:nvPr/>
        </p:nvSpPr>
        <p:spPr>
          <a:xfrm>
            <a:off x="297000" y="2176560"/>
            <a:ext cx="243828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Jāsniedz detalizēts paredzamo rezultātu aprakst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Iespējami konkrēti jānorāda informācijas izplatīšanas kanāli (weblapas, plašsaziņas līdzekļi, iespējamie pasākumi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Reālistiski novērtēšanas pasāku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298440" y="498600"/>
            <a:ext cx="8545680" cy="5257800"/>
          </a:xfrm>
          <a:prstGeom prst="rect">
            <a:avLst/>
          </a:prstGeom>
          <a:ln w="0">
            <a:noFill/>
          </a:ln>
        </p:spPr>
      </p:pic>
      <p:sp>
        <p:nvSpPr>
          <p:cNvPr id="871" name="Left Arrow 3"/>
          <p:cNvSpPr/>
          <p:nvPr/>
        </p:nvSpPr>
        <p:spPr>
          <a:xfrm rot="2480400">
            <a:off x="831600" y="3328560"/>
            <a:ext cx="1008000" cy="355680"/>
          </a:xfrm>
          <a:prstGeom prst="leftArrow">
            <a:avLst>
              <a:gd name="adj1" fmla="val 50000"/>
              <a:gd name="adj2" fmla="val 5447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"/>
          <p:cNvPicPr/>
          <p:nvPr/>
        </p:nvPicPr>
        <p:blipFill>
          <a:blip r:embed="rId1"/>
          <a:stretch/>
        </p:blipFill>
        <p:spPr>
          <a:xfrm>
            <a:off x="417600" y="1774800"/>
            <a:ext cx="8421480" cy="4172040"/>
          </a:xfrm>
          <a:prstGeom prst="rect">
            <a:avLst/>
          </a:prstGeom>
          <a:ln w="0">
            <a:noFill/>
          </a:ln>
        </p:spPr>
      </p:pic>
      <p:sp>
        <p:nvSpPr>
          <p:cNvPr id="873" name="TextBox 7"/>
          <p:cNvSpPr/>
          <p:nvPr/>
        </p:nvSpPr>
        <p:spPr>
          <a:xfrm>
            <a:off x="4602240" y="2873520"/>
            <a:ext cx="36511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Katram braucienam aizpildām pieprasīto informāciju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mobilitāte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5" descr=""/>
          <p:cNvPicPr/>
          <p:nvPr/>
        </p:nvPicPr>
        <p:blipFill>
          <a:blip r:embed="rId1"/>
          <a:srcRect l="0" t="0" r="0" b="13698"/>
          <a:stretch/>
        </p:blipFill>
        <p:spPr>
          <a:xfrm>
            <a:off x="0" y="-166680"/>
            <a:ext cx="8056440" cy="3284640"/>
          </a:xfrm>
          <a:prstGeom prst="rect">
            <a:avLst/>
          </a:prstGeom>
          <a:ln w="0">
            <a:noFill/>
          </a:ln>
        </p:spPr>
      </p:pic>
      <p:sp>
        <p:nvSpPr>
          <p:cNvPr id="877" name="TextBox 8"/>
          <p:cNvSpPr/>
          <p:nvPr/>
        </p:nvSpPr>
        <p:spPr>
          <a:xfrm>
            <a:off x="312840" y="3117960"/>
            <a:ext cx="49417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Aizpildot mobilitāšu tabulu, atbilstošais budžets aizpildās automātiski, saskaņā ar Nordplus likmēm (skat. Roksagrāmatu 2021, 48.-52.lpp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8" name="Picture 6" descr=""/>
          <p:cNvPicPr/>
          <p:nvPr/>
        </p:nvPicPr>
        <p:blipFill>
          <a:blip r:embed="rId2"/>
          <a:srcRect l="0" t="13611" r="0" b="0"/>
          <a:stretch/>
        </p:blipFill>
        <p:spPr>
          <a:xfrm>
            <a:off x="0" y="4410000"/>
            <a:ext cx="7710480" cy="2632320"/>
          </a:xfrm>
          <a:prstGeom prst="rect">
            <a:avLst/>
          </a:prstGeom>
          <a:ln w="0">
            <a:noFill/>
          </a:ln>
        </p:spPr>
      </p:pic>
      <p:cxnSp>
        <p:nvCxnSpPr>
          <p:cNvPr id="879" name="Straight Arrow Connector 7"/>
          <p:cNvCxnSpPr/>
          <p:nvPr/>
        </p:nvCxnSpPr>
        <p:spPr>
          <a:xfrm flipV="1">
            <a:off x="5277960" y="2928600"/>
            <a:ext cx="1321200" cy="589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80" name="Straight Arrow Connector 9"/>
          <p:cNvCxnSpPr>
            <a:stCxn id="877" idx="3"/>
          </p:cNvCxnSpPr>
          <p:nvPr/>
        </p:nvCxnSpPr>
        <p:spPr>
          <a:xfrm>
            <a:off x="5254200" y="3687480"/>
            <a:ext cx="2026440" cy="2794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sadarbība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2" name="Picture 7" descr=""/>
          <p:cNvPicPr/>
          <p:nvPr/>
        </p:nvPicPr>
        <p:blipFill>
          <a:blip r:embed="rId1"/>
          <a:stretch/>
        </p:blipFill>
        <p:spPr>
          <a:xfrm>
            <a:off x="6600960" y="652320"/>
            <a:ext cx="2543040" cy="1162080"/>
          </a:xfrm>
          <a:prstGeom prst="rect">
            <a:avLst/>
          </a:prstGeom>
          <a:ln w="0">
            <a:noFill/>
          </a:ln>
        </p:spPr>
      </p:pic>
      <p:sp>
        <p:nvSpPr>
          <p:cNvPr id="883" name="TextBox 7"/>
          <p:cNvSpPr/>
          <p:nvPr/>
        </p:nvSpPr>
        <p:spPr>
          <a:xfrm>
            <a:off x="2131920" y="1241280"/>
            <a:ext cx="31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Ja atzīmējam 3. sadaļā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Straight Arrow Connector 9"/>
          <p:cNvCxnSpPr/>
          <p:nvPr/>
        </p:nvCxnSpPr>
        <p:spPr>
          <a:xfrm flipV="1">
            <a:off x="5279760" y="1571400"/>
            <a:ext cx="1321200" cy="8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885" name="Picture 8" descr=""/>
          <p:cNvPicPr/>
          <p:nvPr/>
        </p:nvPicPr>
        <p:blipFill>
          <a:blip r:embed="rId2"/>
          <a:srcRect l="0" t="0" r="36436" b="5190"/>
          <a:stretch/>
        </p:blipFill>
        <p:spPr>
          <a:xfrm>
            <a:off x="4707000" y="2309760"/>
            <a:ext cx="4437000" cy="4548240"/>
          </a:xfrm>
          <a:prstGeom prst="rect">
            <a:avLst/>
          </a:prstGeom>
          <a:ln w="0">
            <a:noFill/>
          </a:ln>
        </p:spPr>
      </p:pic>
      <p:sp>
        <p:nvSpPr>
          <p:cNvPr id="886" name="TextBox 7"/>
          <p:cNvSpPr/>
          <p:nvPr/>
        </p:nvSpPr>
        <p:spPr>
          <a:xfrm>
            <a:off x="0" y="2784600"/>
            <a:ext cx="31827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Sadaļa 4.1. nedaudz atšķirā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Par sadarbības projektu veidiem  (</a:t>
            </a:r>
            <a:r>
              <a:rPr b="0" i="1" lang="lv-LV" sz="1600" spc="-1" strike="noStrike">
                <a:solidFill>
                  <a:srgbClr val="002060"/>
                </a:solidFill>
                <a:latin typeface="Verdana"/>
              </a:rPr>
              <a:t>Thematic network, development, mapping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) – skat. Rokasgrāmatu, 46. – 48. lp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Sadaļas 4.2. un 4.3. ir tādas pašas, kā mobilitātes projekta gadījumā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7" name="Straight Arrow Connector 15"/>
          <p:cNvCxnSpPr/>
          <p:nvPr/>
        </p:nvCxnSpPr>
        <p:spPr>
          <a:xfrm flipV="1">
            <a:off x="3182400" y="4553640"/>
            <a:ext cx="1321200" cy="9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Picture 10" descr=""/>
          <p:cNvPicPr/>
          <p:nvPr/>
        </p:nvPicPr>
        <p:blipFill>
          <a:blip r:embed="rId1"/>
          <a:srcRect l="0" t="0" r="25043" b="7409"/>
          <a:stretch/>
        </p:blipFill>
        <p:spPr>
          <a:xfrm>
            <a:off x="3711600" y="3089160"/>
            <a:ext cx="5424480" cy="376884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9" descr=""/>
          <p:cNvPicPr/>
          <p:nvPr/>
        </p:nvPicPr>
        <p:blipFill>
          <a:blip r:embed="rId2"/>
          <a:stretch/>
        </p:blipFill>
        <p:spPr>
          <a:xfrm>
            <a:off x="2332080" y="982800"/>
            <a:ext cx="6202440" cy="1981080"/>
          </a:xfrm>
          <a:prstGeom prst="rect">
            <a:avLst/>
          </a:prstGeom>
          <a:ln w="0">
            <a:noFill/>
          </a:ln>
        </p:spPr>
      </p:pic>
      <p:sp>
        <p:nvSpPr>
          <p:cNvPr id="890" name="Title 1"/>
          <p:cNvSpPr/>
          <p:nvPr/>
        </p:nvSpPr>
        <p:spPr>
          <a:xfrm>
            <a:off x="1657440" y="289080"/>
            <a:ext cx="747864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Sadarbības projekta vai tīkla gadījumā jāaizpilda atsevišķa (MS Excel) budžeta veidl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Straight Arrow Connector 10"/>
          <p:cNvCxnSpPr/>
          <p:nvPr/>
        </p:nvCxnSpPr>
        <p:spPr>
          <a:xfrm>
            <a:off x="5206680" y="1506240"/>
            <a:ext cx="1080" cy="1786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92" name="Title 1"/>
          <p:cNvSpPr/>
          <p:nvPr/>
        </p:nvSpPr>
        <p:spPr>
          <a:xfrm>
            <a:off x="0" y="3451320"/>
            <a:ext cx="256212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! MS Excel 2007 un vecākas vesrijas neatbalsta dažas budžeta veidlapas funkcijas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Straight Arrow Connector 16"/>
          <p:cNvCxnSpPr/>
          <p:nvPr/>
        </p:nvCxnSpPr>
        <p:spPr>
          <a:xfrm>
            <a:off x="2314440" y="4317480"/>
            <a:ext cx="6220800" cy="878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itle 1"/>
          <p:cNvSpPr/>
          <p:nvPr/>
        </p:nvSpPr>
        <p:spPr>
          <a:xfrm>
            <a:off x="0" y="1587600"/>
            <a:ext cx="38116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Automatiski tiek aprēķinātas admin. izmak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itle 1"/>
          <p:cNvSpPr/>
          <p:nvPr/>
        </p:nvSpPr>
        <p:spPr>
          <a:xfrm>
            <a:off x="1657440" y="493560"/>
            <a:ext cx="71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Budžeta veidl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Picture 6" descr=""/>
          <p:cNvPicPr/>
          <p:nvPr/>
        </p:nvPicPr>
        <p:blipFill>
          <a:blip r:embed="rId1"/>
          <a:stretch/>
        </p:blipFill>
        <p:spPr>
          <a:xfrm>
            <a:off x="4349880" y="1130400"/>
            <a:ext cx="4151160" cy="320040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7" descr=""/>
          <p:cNvPicPr/>
          <p:nvPr/>
        </p:nvPicPr>
        <p:blipFill>
          <a:blip r:embed="rId2"/>
          <a:stretch/>
        </p:blipFill>
        <p:spPr>
          <a:xfrm>
            <a:off x="826920" y="4572000"/>
            <a:ext cx="8317080" cy="2286000"/>
          </a:xfrm>
          <a:prstGeom prst="rect">
            <a:avLst/>
          </a:prstGeom>
          <a:ln w="0">
            <a:noFill/>
          </a:ln>
        </p:spPr>
      </p:pic>
      <p:sp>
        <p:nvSpPr>
          <p:cNvPr id="898" name="Title 1"/>
          <p:cNvSpPr/>
          <p:nvPr/>
        </p:nvSpPr>
        <p:spPr>
          <a:xfrm>
            <a:off x="246240" y="2476440"/>
            <a:ext cx="38113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Darba dienu apmaksas aprēķins tiek veikts automātiski pēc dalībvalsts un darba dienu skaita ievadīšanas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saskaņā ar Nordplus PI likmēm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Rokasgrāmata, 51.lp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Straight Arrow Connector 9"/>
          <p:cNvCxnSpPr/>
          <p:nvPr/>
        </p:nvCxnSpPr>
        <p:spPr>
          <a:xfrm>
            <a:off x="3187440" y="2044440"/>
            <a:ext cx="4229640" cy="8643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00" name="Straight Arrow Connector 12"/>
          <p:cNvCxnSpPr/>
          <p:nvPr/>
        </p:nvCxnSpPr>
        <p:spPr>
          <a:xfrm>
            <a:off x="3811320" y="3708360"/>
            <a:ext cx="4849920" cy="1473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itle 1"/>
          <p:cNvSpPr/>
          <p:nvPr/>
        </p:nvSpPr>
        <p:spPr>
          <a:xfrm>
            <a:off x="804960" y="4894200"/>
            <a:ext cx="3811320" cy="17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ēc  visas informācijas ievadīšanas Excel veidlapa automātiski aprēķina kopējo budžetu. Tas jāieraksta Espresso budžeta sadaļ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Picture 2" descr=""/>
          <p:cNvPicPr/>
          <p:nvPr/>
        </p:nvPicPr>
        <p:blipFill>
          <a:blip r:embed="rId1"/>
          <a:stretch/>
        </p:blipFill>
        <p:spPr>
          <a:xfrm>
            <a:off x="244440" y="149400"/>
            <a:ext cx="8744040" cy="2263680"/>
          </a:xfrm>
          <a:prstGeom prst="rect">
            <a:avLst/>
          </a:prstGeom>
          <a:ln w="0">
            <a:noFill/>
          </a:ln>
        </p:spPr>
      </p:pic>
      <p:sp>
        <p:nvSpPr>
          <p:cNvPr id="903" name="Title 1"/>
          <p:cNvSpPr/>
          <p:nvPr/>
        </p:nvSpPr>
        <p:spPr>
          <a:xfrm>
            <a:off x="804960" y="2755800"/>
            <a:ext cx="3811320" cy="120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ēc  apmeklējamās valsts, pasākuma veida un braucēju skaita ievadīšanas tiek automātiski aprēķināts starptautisko braucienu budžet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Straight Arrow Connector 9"/>
          <p:cNvCxnSpPr/>
          <p:nvPr/>
        </p:nvCxnSpPr>
        <p:spPr>
          <a:xfrm flipV="1">
            <a:off x="4349880" y="672840"/>
            <a:ext cx="4388040" cy="2404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905" name="Picture 3" descr=""/>
          <p:cNvPicPr/>
          <p:nvPr/>
        </p:nvPicPr>
        <p:blipFill>
          <a:blip r:embed="rId2"/>
          <a:stretch/>
        </p:blipFill>
        <p:spPr>
          <a:xfrm>
            <a:off x="4616280" y="3254400"/>
            <a:ext cx="4527720" cy="3603600"/>
          </a:xfrm>
          <a:prstGeom prst="rect">
            <a:avLst/>
          </a:prstGeom>
          <a:ln w="0">
            <a:noFill/>
          </a:ln>
        </p:spPr>
      </p:pic>
      <p:cxnSp>
        <p:nvCxnSpPr>
          <p:cNvPr id="906" name="Straight Arrow Connector 14"/>
          <p:cNvCxnSpPr/>
          <p:nvPr/>
        </p:nvCxnSpPr>
        <p:spPr>
          <a:xfrm flipV="1">
            <a:off x="3841920" y="3796560"/>
            <a:ext cx="4629600" cy="1097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1"/>
          <a:stretch/>
        </p:blipFill>
        <p:spPr>
          <a:xfrm>
            <a:off x="719280" y="961920"/>
            <a:ext cx="8421480" cy="5181840"/>
          </a:xfrm>
          <a:prstGeom prst="rect">
            <a:avLst/>
          </a:prstGeom>
          <a:ln w="0">
            <a:noFill/>
          </a:ln>
        </p:spPr>
      </p:pic>
      <p:sp>
        <p:nvSpPr>
          <p:cNvPr id="908" name="Title 1"/>
          <p:cNvSpPr/>
          <p:nvPr/>
        </p:nvSpPr>
        <p:spPr>
          <a:xfrm>
            <a:off x="1657440" y="493560"/>
            <a:ext cx="71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Bankas rekvizī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itle 1"/>
          <p:cNvSpPr/>
          <p:nvPr/>
        </p:nvSpPr>
        <p:spPr>
          <a:xfrm>
            <a:off x="4664160" y="2163600"/>
            <a:ext cx="3206520" cy="20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a projektu atbalstīs, grantu pārskaitīs uz šo kon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Konts var būt jebkurā bank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itle 1"/>
          <p:cNvSpPr/>
          <p:nvPr/>
        </p:nvSpPr>
        <p:spPr>
          <a:xfrm>
            <a:off x="4930920" y="5719680"/>
            <a:ext cx="3206520" cy="11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rganizācijas iekšējais identifikators (ja tādu finanšu vadības sistēma izma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1" name="Straight Arrow Connector 11"/>
          <p:cNvCxnSpPr/>
          <p:nvPr/>
        </p:nvCxnSpPr>
        <p:spPr>
          <a:xfrm flipH="1" flipV="1">
            <a:off x="1866600" y="5380920"/>
            <a:ext cx="3458160" cy="762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7" descr=""/>
          <p:cNvPicPr/>
          <p:nvPr/>
        </p:nvPicPr>
        <p:blipFill>
          <a:blip r:embed="rId1"/>
          <a:stretch/>
        </p:blipFill>
        <p:spPr>
          <a:xfrm>
            <a:off x="3243240" y="3103560"/>
            <a:ext cx="5619600" cy="3705120"/>
          </a:xfrm>
          <a:prstGeom prst="rect">
            <a:avLst/>
          </a:prstGeom>
          <a:ln w="0">
            <a:noFill/>
          </a:ln>
        </p:spPr>
      </p:pic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Verdana"/>
                <a:ea typeface="Verdana"/>
              </a:rPr>
              <a:t>Nordplus video materiāli</a:t>
            </a:r>
            <a:br>
              <a:rPr sz="2000"/>
            </a:br>
            <a:r>
              <a:rPr b="1" lang="lv-LV" sz="2000" spc="-1" strike="noStrike">
                <a:solidFill>
                  <a:srgbClr val="0070c0"/>
                </a:solidFill>
                <a:latin typeface="Verdana"/>
                <a:ea typeface="Verdana"/>
              </a:rPr>
              <a:t>Espresso sistēmas lietošanas instrukcija Nordplus Jauniešu programma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277920" y="2049480"/>
            <a:ext cx="8408880" cy="105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https://viaa.gov.lv/lat/nordplus/nordplus_informativie_izdevumi/#vide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itle 1"/>
          <p:cNvSpPr/>
          <p:nvPr/>
        </p:nvSpPr>
        <p:spPr>
          <a:xfrm>
            <a:off x="-266760" y="3743280"/>
            <a:ext cx="25909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Aicinā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noskatīti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Straight Arrow Connector 5"/>
          <p:cNvCxnSpPr/>
          <p:nvPr/>
        </p:nvCxnSpPr>
        <p:spPr>
          <a:xfrm>
            <a:off x="1758960" y="4188960"/>
            <a:ext cx="16452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6" descr=""/>
          <p:cNvPicPr/>
          <p:nvPr/>
        </p:nvPicPr>
        <p:blipFill>
          <a:blip r:embed="rId1"/>
          <a:stretch/>
        </p:blipFill>
        <p:spPr>
          <a:xfrm>
            <a:off x="2289240" y="971640"/>
            <a:ext cx="6245280" cy="2419200"/>
          </a:xfrm>
          <a:prstGeom prst="rect">
            <a:avLst/>
          </a:prstGeom>
          <a:ln w="0">
            <a:noFill/>
          </a:ln>
        </p:spPr>
      </p:pic>
      <p:sp>
        <p:nvSpPr>
          <p:cNvPr id="9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CD07785-13B2-4651-82BF-B1CBB348E8C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itle 1"/>
          <p:cNvSpPr/>
          <p:nvPr/>
        </p:nvSpPr>
        <p:spPr>
          <a:xfrm>
            <a:off x="100080" y="2928960"/>
            <a:ext cx="223200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</a:rPr>
              <a:t>Obligāti jāpievieno budžets un parakstītas visu partneru un koordinatora  apliecinājuma vēstul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Straight Arrow Connector 6"/>
          <p:cNvCxnSpPr/>
          <p:nvPr/>
        </p:nvCxnSpPr>
        <p:spPr>
          <a:xfrm flipV="1">
            <a:off x="2371320" y="2928600"/>
            <a:ext cx="2823480" cy="1985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jāpārbauda vai ir pievienoti visi pielikumi ut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Sistēma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Straight Arrow Connector 5"/>
          <p:cNvCxnSpPr/>
          <p:nvPr/>
        </p:nvCxnSpPr>
        <p:spPr>
          <a:xfrm>
            <a:off x="2025360" y="4282920"/>
            <a:ext cx="1873800" cy="961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918" name="Picture 6" descr=""/>
          <p:cNvPicPr/>
          <p:nvPr/>
        </p:nvPicPr>
        <p:blipFill>
          <a:blip r:embed="rId1"/>
          <a:stretch/>
        </p:blipFill>
        <p:spPr>
          <a:xfrm>
            <a:off x="2911320" y="468360"/>
            <a:ext cx="5408640" cy="339732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7" descr=""/>
          <p:cNvPicPr/>
          <p:nvPr/>
        </p:nvPicPr>
        <p:blipFill>
          <a:blip r:embed="rId2"/>
          <a:stretch/>
        </p:blipFill>
        <p:spPr>
          <a:xfrm>
            <a:off x="4052880" y="3686040"/>
            <a:ext cx="50911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Verdana"/>
                <a:ea typeface="Verdana"/>
              </a:rPr>
              <a:t>Kā tiek vērtēts projekta pieteikum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1076400" y="1844640"/>
          <a:ext cx="7453080" cy="4383000"/>
        </p:xfrm>
        <a:graphic>
          <a:graphicData uri="http://schemas.openxmlformats.org/drawingml/2006/table">
            <a:tbl>
              <a:tblPr/>
              <a:tblGrid>
                <a:gridCol w="590400"/>
                <a:gridCol w="5580000"/>
                <a:gridCol w="1282680"/>
              </a:tblGrid>
              <a:tr h="243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Relev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comply with the overall Nordplus objectiv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comply with the general framework 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Nordplus Adult and its action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involve adult education and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is the projected targeted a specified group of adult learners or/and educators and staff engaged in adult education and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Relev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Project objectives and 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aims of the project and the approach chosen to achieve them are clear and reali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planned activities are relevant for the project in question and cover the whole project 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Budget is well described and reali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Project objectives and 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Verdana"/>
                <a:ea typeface="Verdana"/>
              </a:rPr>
              <a:t>Kā tiek vērtēts projekta pieteiku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78040" y="1273320"/>
          <a:ext cx="7159680" cy="4898880"/>
        </p:xfrm>
        <a:graphic>
          <a:graphicData uri="http://schemas.openxmlformats.org/drawingml/2006/table">
            <a:tbl>
              <a:tblPr/>
              <a:tblGrid>
                <a:gridCol w="566640"/>
                <a:gridCol w="5359320"/>
                <a:gridCol w="1233720"/>
              </a:tblGrid>
              <a:tr h="220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Organisation and implementation 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 clear and realistic overall plan for implementing the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n appropriate balance between the roles and tasks of the different participants in terms of their involvement in the activities to be carried o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Measures have been planned to ensure effective communication and cooperation between the participating institu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expected impact and benefits of the project on participating institutions and individual participants are clear and well def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Organisation and implementation 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Dissem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are descriptions of expected results on different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Depending on activity and sub-programme, there is a plan for spreading positive results from the cooperation through websites or publications through appropriate channels, to whom and wh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 common project website (can be part of partner institution websi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are plans for how to exploit the results among the participating institutions on a long-term ba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Dissemination and utilisation of 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Total number of 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siu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Semināra mērķ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1804680" y="1252440"/>
            <a:ext cx="7078680" cy="3805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Pievērst projektu sagatavotāju uzmanību būtiskākajiem tehniskajiem un  saturiskajiem jautājumiem projekta pieteikuma sagatavošanas un iesniegšanas procesā Nordplus elektroniskajā sistēmā Espresso https://espresso.diku.no/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Uzsvari prezentācijā balstās uz novērojumiem 2020.gada projektu pieteikumu izvērtēšanas procesā, kā arī uz iepriekš saņemtajiem projektu iesniedzēju jautājumiem 2019. un 2020. gad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1"/>
          <a:srcRect l="0" t="0" r="0" b="23658"/>
          <a:stretch/>
        </p:blipFill>
        <p:spPr>
          <a:xfrm>
            <a:off x="985680" y="4917960"/>
            <a:ext cx="76028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 par Espresso sistē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778040" y="1252440"/>
            <a:ext cx="71056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Espresso sistēmas uzturētājs ir Norvēģijas Augstākās izglītības kvalitātes paaugstināšanas un starptautiskās sadarbības aģentūra  DIKU  (</a:t>
            </a:r>
            <a:r>
              <a:rPr b="0" i="1" lang="nn-NO" sz="3000" spc="-1" strike="noStrike">
                <a:solidFill>
                  <a:srgbClr val="002060"/>
                </a:solidFill>
                <a:latin typeface="Calibri"/>
                <a:ea typeface="Verdana"/>
              </a:rPr>
              <a:t>Direktoratet for internasjonalisering og kvalitetsutvikling i høgare utdanning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https://diku.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1" descr=""/>
          <p:cNvPicPr/>
          <p:nvPr/>
        </p:nvPicPr>
        <p:blipFill>
          <a:blip r:embed="rId1"/>
          <a:stretch/>
        </p:blipFill>
        <p:spPr>
          <a:xfrm>
            <a:off x="5762520" y="4641840"/>
            <a:ext cx="275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projekta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758600" y="1775880"/>
            <a:ext cx="7124760" cy="3038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Kurā apakšprogrammā (</a:t>
            </a:r>
            <a:r>
              <a:rPr b="0" i="1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Horisontal...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3699000" y="266760"/>
            <a:ext cx="5040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lv-LV" sz="2800" spc="-1" strike="noStrike">
                <a:solidFill>
                  <a:srgbClr val="1f4e79"/>
                </a:solidFill>
                <a:latin typeface="Calibri"/>
              </a:rPr>
              <a:t>Nordplus Rokasgrāmata 2021</a:t>
            </a: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42. – 53. lp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600120" y="6359400"/>
            <a:ext cx="77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https://www.nordplusonline.org/how-to-apply/handboo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2" descr=""/>
          <p:cNvPicPr/>
          <p:nvPr/>
        </p:nvPicPr>
        <p:blipFill>
          <a:blip r:embed="rId1"/>
          <a:srcRect l="0" t="0" r="0" b="3114"/>
          <a:stretch/>
        </p:blipFill>
        <p:spPr>
          <a:xfrm>
            <a:off x="574560" y="266760"/>
            <a:ext cx="3124440" cy="414324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6" descr=""/>
          <p:cNvPicPr/>
          <p:nvPr/>
        </p:nvPicPr>
        <p:blipFill>
          <a:blip r:embed="rId2"/>
          <a:stretch/>
        </p:blipFill>
        <p:spPr>
          <a:xfrm>
            <a:off x="5103720" y="1380960"/>
            <a:ext cx="363564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B1FDBC3-9E79-4862-B133-DE06B80A9144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8732880" cy="5194440"/>
          </a:xfrm>
          <a:prstGeom prst="rect">
            <a:avLst/>
          </a:prstGeom>
          <a:ln w="0">
            <a:noFill/>
          </a:ln>
        </p:spPr>
      </p:pic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935920" cy="1233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https://www.nordplusonline.org/how-to-apply/guidelines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811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itle 1"/>
          <p:cNvSpPr/>
          <p:nvPr/>
        </p:nvSpPr>
        <p:spPr>
          <a:xfrm>
            <a:off x="0" y="2984400"/>
            <a:ext cx="25909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Reģistrācija Espres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D</cp:lastModifiedBy>
  <cp:lastPrinted>2019-09-03T09:59:12Z</cp:lastPrinted>
  <dcterms:modified xsi:type="dcterms:W3CDTF">2021-01-15T16:51:56Z</dcterms:modified>
  <cp:revision>239</cp:revision>
  <dc:subject/>
  <dc:title>PowerPoint Presentation</dc:title>
</cp:coreProperties>
</file>